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6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5.png" ContentType="image/png"/>
  <Override PartName="/ppt/media/image17.png" ContentType="image/png"/>
  <Override PartName="/ppt/media/image85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3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4.wmf" ContentType="image/x-wmf"/>
  <Override PartName="/ppt/media/image50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1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10.wmf" ContentType="image/x-wmf"/>
  <Override PartName="/ppt/media/image55.png" ContentType="image/png"/>
  <Override PartName="/ppt/media/image54.png" ContentType="image/png"/>
  <Override PartName="/ppt/media/image129.wmf" ContentType="image/x-wmf"/>
  <Override PartName="/ppt/media/image75.png" ContentType="image/png"/>
  <Override PartName="/ppt/media/image128.png" ContentType="image/png"/>
  <Override PartName="/ppt/media/image99.wmf" ContentType="image/x-wmf"/>
  <Override PartName="/ppt/media/image5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133.png" ContentType="image/png"/>
  <Override PartName="/ppt/media/image47.png" ContentType="image/png"/>
  <Override PartName="/ppt/media/image132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98.wmf" ContentType="image/x-wmf"/>
  <Override PartName="/ppt/media/image127.png" ContentType="image/png"/>
  <Override PartName="/ppt/media/image8.png" ContentType="image/png"/>
  <Override PartName="/ppt/media/image30.png" ContentType="image/png"/>
  <Override PartName="/ppt/media/image25.png" ContentType="image/png"/>
  <Override PartName="/ppt/media/image93.png" ContentType="image/png"/>
  <Override PartName="/ppt/media/image42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65.png" ContentType="image/png"/>
  <Override PartName="/ppt/media/image119.wmf" ContentType="image/x-wmf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91.wmf" ContentType="image/x-wmf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2.wmf" ContentType="image/x-wmf"/>
  <Override PartName="/ppt/media/image121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103.png" ContentType="image/png"/>
  <Override PartName="/ppt/media/image105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45.png" ContentType="image/png"/>
  <Override PartName="/ppt/media/image112.wmf" ContentType="image/x-wmf"/>
  <Override PartName="/ppt/media/image113.png" ContentType="image/png"/>
  <Override PartName="/ppt/media/image114.png" ContentType="image/png"/>
  <Override PartName="/ppt/media/image1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B8E-6EDF-46A8-B879-A045483C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1B2-C167-4954-895E-CA483E1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F63-AAD5-4C0D-8ECB-093DA80C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AA9-4E48-4966-9B52-BD315066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65A-A2D8-4A5A-BD2B-477C8209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8D0-EAC2-4DB9-8B67-95E1A9B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AD5-C634-477A-95CB-2B4B4B1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F0A-419A-4DB7-AE3D-E03F66E9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257-6D5D-43A0-AD28-9C9928B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E3D-7DA8-417A-B4BB-DA1B8D7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156-EC28-42FE-87A8-0BDC44B0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699-DF0C-4E27-A7D7-5E22F95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1B6-E8BD-454A-AC30-050488F0C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1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92.wmf"/><Relationship Id="rId18" Type="http://schemas.openxmlformats.org/officeDocument/2006/relationships/image" Target="../media/image93.png"/><Relationship Id="rId19" Type="http://schemas.openxmlformats.org/officeDocument/2006/relationships/image" Target="../media/image94.png"/><Relationship Id="rId2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9.wmf"/><Relationship Id="rId7" Type="http://schemas.openxmlformats.org/officeDocument/2006/relationships/image" Target="../media/image10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4.wmf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png"/><Relationship Id="rId12" Type="http://schemas.openxmlformats.org/officeDocument/2006/relationships/image" Target="../media/image1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12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9.wmf"/><Relationship Id="rId11" Type="http://schemas.openxmlformats.org/officeDocument/2006/relationships/image" Target="../media/image120.png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9.wmf"/><Relationship Id="rId5" Type="http://schemas.openxmlformats.org/officeDocument/2006/relationships/image" Target="../media/image13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1.wmf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4480" y="236232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3905280" cy="676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5160" y="60480"/>
            <a:ext cx="3629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438280"/>
            <a:ext cx="6838920" cy="2629080"/>
            <a:chOff x="1219320" y="2438280"/>
            <a:chExt cx="6838920" cy="262908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1219320" y="2590920"/>
              <a:ext cx="683892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15320" y="2438280"/>
              <a:ext cx="164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226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230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237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241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266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8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282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290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294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301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316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328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7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350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354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364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382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388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398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2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424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7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428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0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2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489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519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3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7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581360" cy="189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280" y="0"/>
            <a:ext cx="34801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CONCEPTS – A 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0480" y="593640"/>
            <a:ext cx="163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1105200" cy="51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24800" y="485640"/>
            <a:ext cx="2190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magnetic flux linked by N-turn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1219320"/>
            <a:ext cx="2532600" cy="580680"/>
            <a:chOff x="5105520" y="1219320"/>
            <a:chExt cx="2532600" cy="5806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105520" y="1295280"/>
              <a:ext cx="9428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40080" y="1219320"/>
              <a:ext cx="159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ere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linear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2286000"/>
            <a:ext cx="2732760" cy="847440"/>
            <a:chOff x="380880" y="2286000"/>
            <a:chExt cx="2732760" cy="84744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80880" y="2286000"/>
              <a:ext cx="11239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85000" y="2314440"/>
              <a:ext cx="162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raday’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on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38080" y="1828800"/>
            <a:ext cx="4753080" cy="3826800"/>
            <a:chOff x="838080" y="1828800"/>
            <a:chExt cx="4753080" cy="3826800"/>
          </a:xfrm>
        </p:grpSpPr>
        <p:grpSp>
          <p:nvGrpSpPr>
            <p:cNvPr id="62" name=""/>
            <p:cNvGrpSpPr/>
            <p:nvPr/>
          </p:nvGrpSpPr>
          <p:grpSpPr>
            <a:xfrm>
              <a:off x="838080" y="1828800"/>
              <a:ext cx="4753080" cy="3543480"/>
              <a:chOff x="838080" y="1828800"/>
              <a:chExt cx="4753080" cy="35434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438280" y="3200400"/>
                <a:ext cx="3152880" cy="2171880"/>
                <a:chOff x="2438280" y="3200400"/>
                <a:chExt cx="3152880" cy="217188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19720" y="3886200"/>
                  <a:ext cx="1171440" cy="78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38280" y="3200400"/>
                  <a:ext cx="1676520" cy="2171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"/>
              <p:cNvSpPr/>
              <p:nvPr/>
            </p:nvSpPr>
            <p:spPr>
              <a:xfrm>
                <a:off x="838080" y="3124080"/>
                <a:ext cx="160020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3733920" y="1828800"/>
                <a:ext cx="1676160" cy="152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901600" y="5318280"/>
              <a:ext cx="1626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96160" y="3946680"/>
            <a:ext cx="3146400" cy="2901960"/>
            <a:chOff x="5996160" y="3946680"/>
            <a:chExt cx="3146400" cy="2901960"/>
          </a:xfrm>
        </p:grpSpPr>
        <p:sp>
          <p:nvSpPr>
            <p:cNvPr id="70" name=""/>
            <p:cNvSpPr/>
            <p:nvPr/>
          </p:nvSpPr>
          <p:spPr>
            <a:xfrm>
              <a:off x="5996160" y="3946680"/>
              <a:ext cx="224280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s constant 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linear model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556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559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572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77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9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960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8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599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3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606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13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5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7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618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646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650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655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0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661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2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8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681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3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5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686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4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718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7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5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6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749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54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755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8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759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0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2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773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5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776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8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779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801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03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5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806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1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812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818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0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822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834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6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41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845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7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49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850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2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863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269640" y="3716280"/>
            <a:ext cx="3791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869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0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872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4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876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8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86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109440" y="380880"/>
            <a:ext cx="4911120" cy="5936760"/>
            <a:chOff x="-109440" y="380880"/>
            <a:chExt cx="4911120" cy="5936760"/>
          </a:xfrm>
        </p:grpSpPr>
        <p:grpSp>
          <p:nvGrpSpPr>
            <p:cNvPr id="90" name=""/>
            <p:cNvGrpSpPr/>
            <p:nvPr/>
          </p:nvGrpSpPr>
          <p:grpSpPr>
            <a:xfrm>
              <a:off x="2539800" y="380880"/>
              <a:ext cx="2261880" cy="3111480"/>
              <a:chOff x="2539800" y="380880"/>
              <a:chExt cx="2261880" cy="31114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539800" y="380880"/>
                <a:ext cx="2261880" cy="3111480"/>
                <a:chOff x="2539800" y="380880"/>
                <a:chExt cx="2261880" cy="3111480"/>
              </a:xfrm>
            </p:grpSpPr>
            <p:graphicFrame>
              <p:nvGraphicFramePr>
                <p:cNvPr id="92" name=""/>
                <p:cNvGraphicFramePr/>
                <p:nvPr/>
              </p:nvGraphicFramePr>
              <p:xfrm>
                <a:off x="2539800" y="1077840"/>
                <a:ext cx="2261880" cy="24145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3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2539800" y="1077840"/>
                          <a:ext cx="2261880" cy="2414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4" name=""/>
                <p:cNvSpPr/>
                <p:nvPr/>
              </p:nvSpPr>
              <p:spPr>
                <a:xfrm>
                  <a:off x="3052800" y="450720"/>
                  <a:ext cx="154152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Induced link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on secon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o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82320" y="380880"/>
                  <a:ext cx="1510920" cy="1047600"/>
                </a:xfrm>
                <a:custGeom>
                  <a:avLst/>
                  <a:gdLst/>
                  <a:ahLst/>
                  <a:rect l="l" t="t" r="r" b="b"/>
                  <a:pathLst>
                    <a:path w="952" h="660">
                      <a:moveTo>
                        <a:pt x="950" y="192"/>
                      </a:moveTo>
                      <a:cubicBezTo>
                        <a:pt x="948" y="156"/>
                        <a:pt x="952" y="118"/>
                        <a:pt x="943" y="83"/>
                      </a:cubicBezTo>
                      <a:cubicBezTo>
                        <a:pt x="941" y="75"/>
                        <a:pt x="927" y="79"/>
                        <a:pt x="919" y="76"/>
                      </a:cubicBezTo>
                      <a:cubicBezTo>
                        <a:pt x="875" y="58"/>
                        <a:pt x="861" y="51"/>
                        <a:pt x="810" y="44"/>
                      </a:cubicBezTo>
                      <a:cubicBezTo>
                        <a:pt x="664" y="0"/>
                        <a:pt x="433" y="17"/>
                        <a:pt x="296" y="13"/>
                      </a:cubicBezTo>
                      <a:cubicBezTo>
                        <a:pt x="224" y="4"/>
                        <a:pt x="157" y="9"/>
                        <a:pt x="85" y="21"/>
                      </a:cubicBezTo>
                      <a:cubicBezTo>
                        <a:pt x="59" y="47"/>
                        <a:pt x="58" y="66"/>
                        <a:pt x="46" y="99"/>
                      </a:cubicBezTo>
                      <a:cubicBezTo>
                        <a:pt x="43" y="173"/>
                        <a:pt x="14" y="501"/>
                        <a:pt x="39" y="574"/>
                      </a:cubicBezTo>
                      <a:cubicBezTo>
                        <a:pt x="46" y="594"/>
                        <a:pt x="80" y="585"/>
                        <a:pt x="101" y="590"/>
                      </a:cubicBezTo>
                      <a:cubicBezTo>
                        <a:pt x="176" y="587"/>
                        <a:pt x="252" y="582"/>
                        <a:pt x="327" y="582"/>
                      </a:cubicBezTo>
                      <a:cubicBezTo>
                        <a:pt x="384" y="582"/>
                        <a:pt x="211" y="576"/>
                        <a:pt x="156" y="590"/>
                      </a:cubicBezTo>
                      <a:cubicBezTo>
                        <a:pt x="135" y="595"/>
                        <a:pt x="130" y="631"/>
                        <a:pt x="109" y="637"/>
                      </a:cubicBezTo>
                      <a:cubicBezTo>
                        <a:pt x="74" y="647"/>
                        <a:pt x="37" y="660"/>
                        <a:pt x="0" y="66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6" name=""/>
              <p:cNvGraphicFramePr/>
              <p:nvPr/>
            </p:nvGraphicFramePr>
            <p:xfrm>
              <a:off x="3742560" y="990360"/>
              <a:ext cx="379080" cy="277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742560" y="990360"/>
                        <a:ext cx="37908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8" name=""/>
            <p:cNvSpPr/>
            <p:nvPr/>
          </p:nvSpPr>
          <p:spPr>
            <a:xfrm>
              <a:off x="-109440" y="5736960"/>
              <a:ext cx="418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at happens if the flux created by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links to another coil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0320" y="1828800"/>
            <a:ext cx="6813360" cy="4833000"/>
            <a:chOff x="130320" y="1828800"/>
            <a:chExt cx="6813360" cy="4833000"/>
          </a:xfrm>
        </p:grpSpPr>
        <p:sp>
          <p:nvSpPr>
            <p:cNvPr id="105" name=""/>
            <p:cNvSpPr/>
            <p:nvPr/>
          </p:nvSpPr>
          <p:spPr>
            <a:xfrm>
              <a:off x="130320" y="6324480"/>
              <a:ext cx="4268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has the effect of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4648320" y="1828800"/>
              <a:ext cx="229536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800600" y="2666880"/>
            <a:ext cx="4343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891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895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9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1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913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5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0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923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2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943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8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949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1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961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5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8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969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0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71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972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73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6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8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985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986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9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9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1012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6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1017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5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1026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8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0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033560" y="219240"/>
            <a:ext cx="7076880" cy="64195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2" dur="indefinite" restart="never" nodeType="tmRoot">
          <p:childTnLst>
            <p:seq>
              <p:cTn id="2533" dur="indefinite" nodeType="mainSeq">
                <p:childTnLst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9840" y="136440"/>
            <a:ext cx="2029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COI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297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1952640" cy="933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27600" y="228600"/>
            <a:ext cx="354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both currents contribute to 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00996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2990880" cy="8571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366480" y="3198960"/>
            <a:ext cx="8472600" cy="1770840"/>
            <a:chOff x="366480" y="3198960"/>
            <a:chExt cx="8472600" cy="1770840"/>
          </a:xfrm>
        </p:grpSpPr>
        <p:sp>
          <p:nvSpPr>
            <p:cNvPr id="115" name=""/>
            <p:cNvSpPr/>
            <p:nvPr/>
          </p:nvSpPr>
          <p:spPr>
            <a:xfrm>
              <a:off x="1525680" y="3198960"/>
              <a:ext cx="6858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3200400"/>
              <a:ext cx="76176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6480" y="4632480"/>
              <a:ext cx="14259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f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387160" y="3271680"/>
            <a:ext cx="5461560" cy="1698120"/>
            <a:chOff x="2387160" y="3271680"/>
            <a:chExt cx="5461560" cy="1698120"/>
          </a:xfrm>
        </p:grpSpPr>
        <p:sp>
          <p:nvSpPr>
            <p:cNvPr id="119" name=""/>
            <p:cNvSpPr/>
            <p:nvPr/>
          </p:nvSpPr>
          <p:spPr>
            <a:xfrm>
              <a:off x="2440080" y="3271680"/>
              <a:ext cx="83808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0280" y="3276720"/>
              <a:ext cx="838440" cy="12189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7160" y="4632480"/>
              <a:ext cx="178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tual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91120" y="5181480"/>
            <a:ext cx="4757400" cy="641160"/>
            <a:chOff x="4191120" y="5181480"/>
            <a:chExt cx="4757400" cy="64116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191120" y="5181480"/>
              <a:ext cx="19047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50320" y="5241960"/>
              <a:ext cx="2698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simpl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47840" y="0"/>
            <a:ext cx="436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using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0" y="380880"/>
          <a:ext cx="3600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600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8" name=""/>
          <p:cNvGraphicFramePr/>
          <p:nvPr/>
        </p:nvGraphicFramePr>
        <p:xfrm>
          <a:off x="3200400" y="361800"/>
          <a:ext cx="594360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61800"/>
                    <a:ext cx="5943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4800600" y="2438280"/>
            <a:ext cx="2000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091" name=""/>
          <p:cNvGrpSpPr/>
          <p:nvPr/>
        </p:nvGrpSpPr>
        <p:grpSpPr>
          <a:xfrm>
            <a:off x="4724280" y="2666880"/>
            <a:ext cx="3257640" cy="1467000"/>
            <a:chOff x="4724280" y="2666880"/>
            <a:chExt cx="3257640" cy="1467000"/>
          </a:xfrm>
        </p:grpSpPr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6858000" y="2666880"/>
              <a:ext cx="1123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4724280" y="3276720"/>
              <a:ext cx="293364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4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3295440" cy="73368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228600" y="1933560"/>
            <a:ext cx="4200480" cy="2914560"/>
            <a:chOff x="228600" y="1933560"/>
            <a:chExt cx="4200480" cy="2914560"/>
          </a:xfrm>
        </p:grpSpPr>
        <p:pic>
          <p:nvPicPr>
            <p:cNvPr id="1096" name="" descr=""/>
            <p:cNvPicPr/>
            <p:nvPr/>
          </p:nvPicPr>
          <p:blipFill>
            <a:blip r:embed="rId9"/>
            <a:stretch/>
          </p:blipFill>
          <p:spPr>
            <a:xfrm>
              <a:off x="228600" y="4495680"/>
              <a:ext cx="42004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10"/>
            <a:stretch/>
          </p:blipFill>
          <p:spPr>
            <a:xfrm>
              <a:off x="3200400" y="2286000"/>
              <a:ext cx="952560" cy="31428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098" name=""/>
            <p:cNvSpPr/>
            <p:nvPr/>
          </p:nvSpPr>
          <p:spPr>
            <a:xfrm>
              <a:off x="2712960" y="1933560"/>
              <a:ext cx="469800" cy="1214280"/>
            </a:xfrm>
            <a:custGeom>
              <a:avLst/>
              <a:gdLst/>
              <a:ahLst/>
              <a:rect l="l" t="t" r="r" b="b"/>
              <a:pathLst>
                <a:path w="296" h="765">
                  <a:moveTo>
                    <a:pt x="0" y="0"/>
                  </a:moveTo>
                  <a:cubicBezTo>
                    <a:pt x="36" y="36"/>
                    <a:pt x="54" y="77"/>
                    <a:pt x="104" y="95"/>
                  </a:cubicBezTo>
                  <a:cubicBezTo>
                    <a:pt x="130" y="133"/>
                    <a:pt x="170" y="163"/>
                    <a:pt x="208" y="189"/>
                  </a:cubicBezTo>
                  <a:cubicBezTo>
                    <a:pt x="227" y="217"/>
                    <a:pt x="236" y="246"/>
                    <a:pt x="255" y="274"/>
                  </a:cubicBezTo>
                  <a:cubicBezTo>
                    <a:pt x="281" y="373"/>
                    <a:pt x="296" y="488"/>
                    <a:pt x="236" y="576"/>
                  </a:cubicBezTo>
                  <a:cubicBezTo>
                    <a:pt x="217" y="632"/>
                    <a:pt x="194" y="668"/>
                    <a:pt x="161" y="718"/>
                  </a:cubicBezTo>
                  <a:cubicBezTo>
                    <a:pt x="155" y="727"/>
                    <a:pt x="151" y="740"/>
                    <a:pt x="142" y="746"/>
                  </a:cubicBezTo>
                  <a:cubicBezTo>
                    <a:pt x="132" y="752"/>
                    <a:pt x="113" y="765"/>
                    <a:pt x="113" y="7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01520" y="5699160"/>
            <a:ext cx="3746520" cy="777960"/>
            <a:chOff x="101520" y="5699160"/>
            <a:chExt cx="3746520" cy="777960"/>
          </a:xfrm>
        </p:grpSpPr>
        <p:pic>
          <p:nvPicPr>
            <p:cNvPr id="1100" name="" descr=""/>
            <p:cNvPicPr/>
            <p:nvPr/>
          </p:nvPicPr>
          <p:blipFill>
            <a:blip r:embed="rId11"/>
            <a:stretch/>
          </p:blipFill>
          <p:spPr>
            <a:xfrm>
              <a:off x="152280" y="5991120"/>
              <a:ext cx="369576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101520" y="569916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currents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2" name="" descr=""/>
          <p:cNvPicPr/>
          <p:nvPr/>
        </p:nvPicPr>
        <p:blipFill>
          <a:blip r:embed="rId12"/>
          <a:stretch/>
        </p:blipFill>
        <p:spPr>
          <a:xfrm>
            <a:off x="4114800" y="5508720"/>
            <a:ext cx="4419720" cy="12729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648240" y="380880"/>
            <a:ext cx="5495760" cy="5143680"/>
            <a:chOff x="3648240" y="380880"/>
            <a:chExt cx="5495760" cy="5143680"/>
          </a:xfrm>
        </p:grpSpPr>
        <p:graphicFrame>
          <p:nvGraphicFramePr>
            <p:cNvPr id="1107" name=""/>
            <p:cNvGraphicFramePr/>
            <p:nvPr/>
          </p:nvGraphicFramePr>
          <p:xfrm>
            <a:off x="7162920" y="380880"/>
            <a:ext cx="83808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162920" y="380880"/>
                      <a:ext cx="83808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09" name=""/>
            <p:cNvGraphicFramePr/>
            <p:nvPr/>
          </p:nvGraphicFramePr>
          <p:xfrm>
            <a:off x="4495680" y="457200"/>
            <a:ext cx="648000" cy="27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457200"/>
                      <a:ext cx="64800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111" name=""/>
            <p:cNvGrpSpPr/>
            <p:nvPr/>
          </p:nvGrpSpPr>
          <p:grpSpPr>
            <a:xfrm>
              <a:off x="3648240" y="3143160"/>
              <a:ext cx="5495760" cy="2381400"/>
              <a:chOff x="3648240" y="3143160"/>
              <a:chExt cx="5495760" cy="2381400"/>
            </a:xfrm>
          </p:grpSpPr>
          <p:pic>
            <p:nvPicPr>
              <p:cNvPr id="111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648240" y="5105520"/>
                <a:ext cx="5495760" cy="419040"/>
              </a:xfrm>
              <a:prstGeom prst="rect">
                <a:avLst/>
              </a:prstGeom>
              <a:ln w="25560">
                <a:solidFill>
                  <a:srgbClr val="3333cc"/>
                </a:solidFill>
                <a:miter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4362480" y="3143160"/>
                <a:ext cx="3252600" cy="679680"/>
              </a:xfrm>
              <a:custGeom>
                <a:avLst/>
                <a:gdLst/>
                <a:ahLst/>
                <a:rect l="l" t="t" r="r" b="b"/>
                <a:pathLst>
                  <a:path w="2049" h="428">
                    <a:moveTo>
                      <a:pt x="255" y="60"/>
                    </a:moveTo>
                    <a:cubicBezTo>
                      <a:pt x="212" y="27"/>
                      <a:pt x="185" y="13"/>
                      <a:pt x="132" y="3"/>
                    </a:cubicBezTo>
                    <a:cubicBezTo>
                      <a:pt x="45" y="32"/>
                      <a:pt x="91" y="0"/>
                      <a:pt x="66" y="50"/>
                    </a:cubicBezTo>
                    <a:cubicBezTo>
                      <a:pt x="61" y="60"/>
                      <a:pt x="53" y="69"/>
                      <a:pt x="47" y="78"/>
                    </a:cubicBezTo>
                    <a:cubicBezTo>
                      <a:pt x="0" y="229"/>
                      <a:pt x="177" y="269"/>
                      <a:pt x="283" y="296"/>
                    </a:cubicBezTo>
                    <a:cubicBezTo>
                      <a:pt x="332" y="308"/>
                      <a:pt x="321" y="320"/>
                      <a:pt x="368" y="324"/>
                    </a:cubicBezTo>
                    <a:cubicBezTo>
                      <a:pt x="425" y="329"/>
                      <a:pt x="481" y="330"/>
                      <a:pt x="538" y="333"/>
                    </a:cubicBezTo>
                    <a:cubicBezTo>
                      <a:pt x="855" y="370"/>
                      <a:pt x="1174" y="380"/>
                      <a:pt x="1492" y="400"/>
                    </a:cubicBezTo>
                    <a:cubicBezTo>
                      <a:pt x="1549" y="409"/>
                      <a:pt x="1604" y="420"/>
                      <a:pt x="1662" y="428"/>
                    </a:cubicBezTo>
                    <a:cubicBezTo>
                      <a:pt x="1751" y="418"/>
                      <a:pt x="1841" y="401"/>
                      <a:pt x="1926" y="371"/>
                    </a:cubicBezTo>
                    <a:cubicBezTo>
                      <a:pt x="1964" y="333"/>
                      <a:pt x="2000" y="294"/>
                      <a:pt x="2030" y="248"/>
                    </a:cubicBezTo>
                    <a:cubicBezTo>
                      <a:pt x="2034" y="237"/>
                      <a:pt x="2049" y="191"/>
                      <a:pt x="2049" y="182"/>
                    </a:cubicBezTo>
                    <a:cubicBezTo>
                      <a:pt x="2049" y="50"/>
                      <a:pt x="1833" y="69"/>
                      <a:pt x="1747" y="60"/>
                    </a:cubicBezTo>
                    <a:cubicBezTo>
                      <a:pt x="1527" y="67"/>
                      <a:pt x="1313" y="84"/>
                      <a:pt x="1095" y="97"/>
                    </a:cubicBezTo>
                    <a:cubicBezTo>
                      <a:pt x="931" y="91"/>
                      <a:pt x="777" y="78"/>
                      <a:pt x="614" y="69"/>
                    </a:cubicBezTo>
                    <a:cubicBezTo>
                      <a:pt x="556" y="60"/>
                      <a:pt x="502" y="48"/>
                      <a:pt x="444" y="41"/>
                    </a:cubicBezTo>
                    <a:cubicBezTo>
                      <a:pt x="356" y="18"/>
                      <a:pt x="419" y="29"/>
                      <a:pt x="255" y="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3807000" y="2571840"/>
            <a:ext cx="4635000" cy="3573360"/>
            <a:chOff x="3807000" y="2571840"/>
            <a:chExt cx="4635000" cy="3573360"/>
          </a:xfrm>
        </p:grpSpPr>
        <p:grpSp>
          <p:nvGrpSpPr>
            <p:cNvPr id="1115" name=""/>
            <p:cNvGrpSpPr/>
            <p:nvPr/>
          </p:nvGrpSpPr>
          <p:grpSpPr>
            <a:xfrm>
              <a:off x="3807000" y="4267080"/>
              <a:ext cx="2552400" cy="1878120"/>
              <a:chOff x="3807000" y="4267080"/>
              <a:chExt cx="2552400" cy="187812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52880" y="4267080"/>
                <a:ext cx="1371600" cy="9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3807000" y="4316400"/>
                <a:ext cx="2552400" cy="1828800"/>
              </a:xfrm>
              <a:custGeom>
                <a:avLst/>
                <a:gdLst/>
                <a:ahLst/>
                <a:rect l="l" t="t" r="r" b="b"/>
                <a:pathLst>
                  <a:path w="1608" h="1152">
                    <a:moveTo>
                      <a:pt x="0" y="1152"/>
                    </a:moveTo>
                    <a:cubicBezTo>
                      <a:pt x="38" y="1091"/>
                      <a:pt x="78" y="1048"/>
                      <a:pt x="133" y="1001"/>
                    </a:cubicBezTo>
                    <a:cubicBezTo>
                      <a:pt x="152" y="940"/>
                      <a:pt x="127" y="1002"/>
                      <a:pt x="199" y="926"/>
                    </a:cubicBezTo>
                    <a:cubicBezTo>
                      <a:pt x="233" y="890"/>
                      <a:pt x="262" y="851"/>
                      <a:pt x="293" y="813"/>
                    </a:cubicBezTo>
                    <a:cubicBezTo>
                      <a:pt x="316" y="785"/>
                      <a:pt x="369" y="737"/>
                      <a:pt x="369" y="737"/>
                    </a:cubicBezTo>
                    <a:cubicBezTo>
                      <a:pt x="385" y="687"/>
                      <a:pt x="468" y="607"/>
                      <a:pt x="501" y="558"/>
                    </a:cubicBezTo>
                    <a:cubicBezTo>
                      <a:pt x="577" y="445"/>
                      <a:pt x="464" y="611"/>
                      <a:pt x="539" y="501"/>
                    </a:cubicBezTo>
                    <a:cubicBezTo>
                      <a:pt x="545" y="492"/>
                      <a:pt x="558" y="473"/>
                      <a:pt x="558" y="473"/>
                    </a:cubicBezTo>
                    <a:cubicBezTo>
                      <a:pt x="570" y="434"/>
                      <a:pt x="591" y="393"/>
                      <a:pt x="614" y="359"/>
                    </a:cubicBezTo>
                    <a:cubicBezTo>
                      <a:pt x="617" y="347"/>
                      <a:pt x="612" y="327"/>
                      <a:pt x="624" y="322"/>
                    </a:cubicBezTo>
                    <a:cubicBezTo>
                      <a:pt x="641" y="315"/>
                      <a:pt x="661" y="331"/>
                      <a:pt x="680" y="331"/>
                    </a:cubicBezTo>
                    <a:cubicBezTo>
                      <a:pt x="690" y="331"/>
                      <a:pt x="699" y="325"/>
                      <a:pt x="709" y="322"/>
                    </a:cubicBezTo>
                    <a:cubicBezTo>
                      <a:pt x="720" y="288"/>
                      <a:pt x="703" y="230"/>
                      <a:pt x="737" y="218"/>
                    </a:cubicBezTo>
                    <a:cubicBezTo>
                      <a:pt x="801" y="195"/>
                      <a:pt x="845" y="187"/>
                      <a:pt x="916" y="180"/>
                    </a:cubicBezTo>
                    <a:cubicBezTo>
                      <a:pt x="967" y="167"/>
                      <a:pt x="1012" y="159"/>
                      <a:pt x="1058" y="133"/>
                    </a:cubicBezTo>
                    <a:cubicBezTo>
                      <a:pt x="1100" y="109"/>
                      <a:pt x="1102" y="88"/>
                      <a:pt x="1152" y="76"/>
                    </a:cubicBezTo>
                    <a:cubicBezTo>
                      <a:pt x="1188" y="41"/>
                      <a:pt x="1225" y="27"/>
                      <a:pt x="1266" y="0"/>
                    </a:cubicBezTo>
                    <a:cubicBezTo>
                      <a:pt x="1297" y="6"/>
                      <a:pt x="1330" y="8"/>
                      <a:pt x="1360" y="19"/>
                    </a:cubicBezTo>
                    <a:cubicBezTo>
                      <a:pt x="1404" y="36"/>
                      <a:pt x="1435" y="78"/>
                      <a:pt x="1473" y="104"/>
                    </a:cubicBezTo>
                    <a:cubicBezTo>
                      <a:pt x="1483" y="101"/>
                      <a:pt x="1493" y="100"/>
                      <a:pt x="1502" y="95"/>
                    </a:cubicBezTo>
                    <a:cubicBezTo>
                      <a:pt x="1522" y="84"/>
                      <a:pt x="1558" y="57"/>
                      <a:pt x="1558" y="57"/>
                    </a:cubicBezTo>
                    <a:cubicBezTo>
                      <a:pt x="1608" y="74"/>
                      <a:pt x="1597" y="99"/>
                      <a:pt x="1606" y="152"/>
                    </a:cubicBezTo>
                    <a:cubicBezTo>
                      <a:pt x="1595" y="277"/>
                      <a:pt x="1579" y="343"/>
                      <a:pt x="1511" y="444"/>
                    </a:cubicBezTo>
                    <a:cubicBezTo>
                      <a:pt x="1489" y="477"/>
                      <a:pt x="1475" y="497"/>
                      <a:pt x="1436" y="510"/>
                    </a:cubicBezTo>
                    <a:cubicBezTo>
                      <a:pt x="1226" y="501"/>
                      <a:pt x="1021" y="476"/>
                      <a:pt x="812" y="454"/>
                    </a:cubicBezTo>
                    <a:cubicBezTo>
                      <a:pt x="782" y="443"/>
                      <a:pt x="749" y="431"/>
                      <a:pt x="718" y="425"/>
                    </a:cubicBezTo>
                    <a:cubicBezTo>
                      <a:pt x="696" y="421"/>
                      <a:pt x="673" y="423"/>
                      <a:pt x="652" y="416"/>
                    </a:cubicBezTo>
                    <a:cubicBezTo>
                      <a:pt x="643" y="413"/>
                      <a:pt x="639" y="403"/>
                      <a:pt x="633" y="3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5486400" y="4098960"/>
              <a:ext cx="2955600" cy="625320"/>
              <a:chOff x="5486400" y="4098960"/>
              <a:chExt cx="2955600" cy="625320"/>
            </a:xfrm>
          </p:grpSpPr>
          <p:sp>
            <p:nvSpPr>
              <p:cNvPr id="1119" name=""/>
              <p:cNvSpPr/>
              <p:nvPr/>
            </p:nvSpPr>
            <p:spPr>
              <a:xfrm>
                <a:off x="5486400" y="4114800"/>
                <a:ext cx="1066680" cy="6094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574320" y="4098960"/>
                <a:ext cx="1867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maller indu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791400" y="2571840"/>
              <a:ext cx="1422360" cy="755640"/>
            </a:xfrm>
            <a:custGeom>
              <a:avLst/>
              <a:gdLst/>
              <a:ahLst/>
              <a:rect l="l" t="t" r="r" b="b"/>
              <a:pathLst>
                <a:path w="896" h="476">
                  <a:moveTo>
                    <a:pt x="887" y="448"/>
                  </a:moveTo>
                  <a:cubicBezTo>
                    <a:pt x="884" y="401"/>
                    <a:pt x="883" y="353"/>
                    <a:pt x="878" y="306"/>
                  </a:cubicBezTo>
                  <a:cubicBezTo>
                    <a:pt x="868" y="214"/>
                    <a:pt x="739" y="133"/>
                    <a:pt x="660" y="108"/>
                  </a:cubicBezTo>
                  <a:cubicBezTo>
                    <a:pt x="590" y="60"/>
                    <a:pt x="679" y="116"/>
                    <a:pt x="594" y="80"/>
                  </a:cubicBezTo>
                  <a:cubicBezTo>
                    <a:pt x="584" y="76"/>
                    <a:pt x="576" y="66"/>
                    <a:pt x="566" y="61"/>
                  </a:cubicBezTo>
                  <a:cubicBezTo>
                    <a:pt x="506" y="30"/>
                    <a:pt x="422" y="30"/>
                    <a:pt x="358" y="23"/>
                  </a:cubicBezTo>
                  <a:cubicBezTo>
                    <a:pt x="262" y="0"/>
                    <a:pt x="288" y="2"/>
                    <a:pt x="113" y="23"/>
                  </a:cubicBezTo>
                  <a:cubicBezTo>
                    <a:pt x="89" y="26"/>
                    <a:pt x="70" y="45"/>
                    <a:pt x="47" y="51"/>
                  </a:cubicBezTo>
                  <a:cubicBezTo>
                    <a:pt x="10" y="88"/>
                    <a:pt x="10" y="103"/>
                    <a:pt x="0" y="155"/>
                  </a:cubicBezTo>
                  <a:cubicBezTo>
                    <a:pt x="4" y="186"/>
                    <a:pt x="7" y="247"/>
                    <a:pt x="28" y="278"/>
                  </a:cubicBezTo>
                  <a:cubicBezTo>
                    <a:pt x="88" y="367"/>
                    <a:pt x="226" y="381"/>
                    <a:pt x="321" y="391"/>
                  </a:cubicBezTo>
                  <a:cubicBezTo>
                    <a:pt x="382" y="413"/>
                    <a:pt x="447" y="405"/>
                    <a:pt x="509" y="420"/>
                  </a:cubicBezTo>
                  <a:cubicBezTo>
                    <a:pt x="605" y="444"/>
                    <a:pt x="703" y="464"/>
                    <a:pt x="802" y="476"/>
                  </a:cubicBezTo>
                  <a:cubicBezTo>
                    <a:pt x="830" y="467"/>
                    <a:pt x="834" y="468"/>
                    <a:pt x="859" y="448"/>
                  </a:cubicBezTo>
                  <a:cubicBezTo>
                    <a:pt x="869" y="440"/>
                    <a:pt x="874" y="420"/>
                    <a:pt x="887" y="420"/>
                  </a:cubicBezTo>
                  <a:cubicBezTo>
                    <a:pt x="896" y="420"/>
                    <a:pt x="887" y="439"/>
                    <a:pt x="887" y="44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638760" cy="43243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304200" y="212760"/>
            <a:ext cx="53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WITH HIGH FREQUENC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82800" y="60480"/>
            <a:ext cx="2550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67320" y="60480"/>
            <a:ext cx="278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ED ELECTRIC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0006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130" name=""/>
          <p:cNvGrpSpPr/>
          <p:nvPr/>
        </p:nvGrpSpPr>
        <p:grpSpPr>
          <a:xfrm>
            <a:off x="455760" y="1994040"/>
            <a:ext cx="7049880" cy="1277640"/>
            <a:chOff x="455760" y="1994040"/>
            <a:chExt cx="7049880" cy="1277640"/>
          </a:xfrm>
        </p:grpSpPr>
        <p:sp>
          <p:nvSpPr>
            <p:cNvPr id="1131" name=""/>
            <p:cNvSpPr/>
            <p:nvPr/>
          </p:nvSpPr>
          <p:spPr>
            <a:xfrm>
              <a:off x="870120" y="1994040"/>
              <a:ext cx="509400" cy="1277640"/>
            </a:xfrm>
            <a:custGeom>
              <a:avLst/>
              <a:gdLst/>
              <a:ahLst/>
              <a:rect l="l" t="t" r="r" b="b"/>
              <a:pathLst>
                <a:path w="321" h="805">
                  <a:moveTo>
                    <a:pt x="311" y="0"/>
                  </a:moveTo>
                  <a:cubicBezTo>
                    <a:pt x="275" y="24"/>
                    <a:pt x="239" y="27"/>
                    <a:pt x="198" y="38"/>
                  </a:cubicBezTo>
                  <a:cubicBezTo>
                    <a:pt x="171" y="78"/>
                    <a:pt x="128" y="98"/>
                    <a:pt x="94" y="132"/>
                  </a:cubicBezTo>
                  <a:cubicBezTo>
                    <a:pt x="84" y="174"/>
                    <a:pt x="64" y="197"/>
                    <a:pt x="47" y="236"/>
                  </a:cubicBezTo>
                  <a:cubicBezTo>
                    <a:pt x="24" y="288"/>
                    <a:pt x="11" y="358"/>
                    <a:pt x="0" y="415"/>
                  </a:cubicBezTo>
                  <a:cubicBezTo>
                    <a:pt x="12" y="551"/>
                    <a:pt x="36" y="650"/>
                    <a:pt x="160" y="718"/>
                  </a:cubicBezTo>
                  <a:cubicBezTo>
                    <a:pt x="199" y="740"/>
                    <a:pt x="277" y="805"/>
                    <a:pt x="321" y="78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5760" y="2498760"/>
              <a:ext cx="99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3657600" y="2590920"/>
              <a:ext cx="3848040" cy="399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34" name=""/>
          <p:cNvGraphicFramePr/>
          <p:nvPr/>
        </p:nvGraphicFramePr>
        <p:xfrm>
          <a:off x="3124080" y="2514600"/>
          <a:ext cx="45720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514600"/>
                    <a:ext cx="4572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3200400" y="450720"/>
          <a:ext cx="1981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50720"/>
                    <a:ext cx="1981080" cy="3621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38" name=""/>
          <p:cNvGrpSpPr/>
          <p:nvPr/>
        </p:nvGrpSpPr>
        <p:grpSpPr>
          <a:xfrm>
            <a:off x="2892600" y="404640"/>
            <a:ext cx="5775120" cy="3100680"/>
            <a:chOff x="2892600" y="404640"/>
            <a:chExt cx="5775120" cy="3100680"/>
          </a:xfrm>
        </p:grpSpPr>
        <p:pic>
          <p:nvPicPr>
            <p:cNvPr id="1139" name="" descr=""/>
            <p:cNvPicPr/>
            <p:nvPr/>
          </p:nvPicPr>
          <p:blipFill>
            <a:blip r:embed="rId7"/>
            <a:stretch/>
          </p:blipFill>
          <p:spPr>
            <a:xfrm>
              <a:off x="4038480" y="3124080"/>
              <a:ext cx="4629240" cy="38124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140" name=""/>
            <p:cNvSpPr/>
            <p:nvPr/>
          </p:nvSpPr>
          <p:spPr>
            <a:xfrm>
              <a:off x="3108240" y="404640"/>
              <a:ext cx="2333880" cy="667080"/>
            </a:xfrm>
            <a:custGeom>
              <a:avLst/>
              <a:gdLst/>
              <a:ahLst/>
              <a:rect l="l" t="t" r="r" b="b"/>
              <a:pathLst>
                <a:path w="1470" h="420">
                  <a:moveTo>
                    <a:pt x="82" y="0"/>
                  </a:moveTo>
                  <a:cubicBezTo>
                    <a:pt x="0" y="25"/>
                    <a:pt x="35" y="96"/>
                    <a:pt x="44" y="179"/>
                  </a:cubicBezTo>
                  <a:cubicBezTo>
                    <a:pt x="45" y="189"/>
                    <a:pt x="47" y="200"/>
                    <a:pt x="53" y="208"/>
                  </a:cubicBezTo>
                  <a:cubicBezTo>
                    <a:pt x="63" y="220"/>
                    <a:pt x="108" y="239"/>
                    <a:pt x="119" y="245"/>
                  </a:cubicBezTo>
                  <a:cubicBezTo>
                    <a:pt x="185" y="282"/>
                    <a:pt x="255" y="290"/>
                    <a:pt x="327" y="312"/>
                  </a:cubicBezTo>
                  <a:cubicBezTo>
                    <a:pt x="465" y="355"/>
                    <a:pt x="339" y="334"/>
                    <a:pt x="507" y="349"/>
                  </a:cubicBezTo>
                  <a:cubicBezTo>
                    <a:pt x="705" y="391"/>
                    <a:pt x="911" y="388"/>
                    <a:pt x="1111" y="415"/>
                  </a:cubicBezTo>
                  <a:cubicBezTo>
                    <a:pt x="1380" y="401"/>
                    <a:pt x="1217" y="420"/>
                    <a:pt x="1347" y="378"/>
                  </a:cubicBezTo>
                  <a:cubicBezTo>
                    <a:pt x="1404" y="339"/>
                    <a:pt x="1431" y="293"/>
                    <a:pt x="1451" y="227"/>
                  </a:cubicBezTo>
                  <a:cubicBezTo>
                    <a:pt x="1459" y="202"/>
                    <a:pt x="1470" y="151"/>
                    <a:pt x="1470" y="151"/>
                  </a:cubicBezTo>
                  <a:cubicBezTo>
                    <a:pt x="1445" y="56"/>
                    <a:pt x="1361" y="19"/>
                    <a:pt x="1271" y="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2600" y="2443320"/>
              <a:ext cx="765000" cy="404640"/>
            </a:xfrm>
            <a:custGeom>
              <a:avLst/>
              <a:gdLst/>
              <a:ahLst/>
              <a:rect l="l" t="t" r="r" b="b"/>
              <a:pathLst>
                <a:path w="482" h="255">
                  <a:moveTo>
                    <a:pt x="482" y="19"/>
                  </a:moveTo>
                  <a:cubicBezTo>
                    <a:pt x="469" y="88"/>
                    <a:pt x="445" y="104"/>
                    <a:pt x="406" y="151"/>
                  </a:cubicBezTo>
                  <a:cubicBezTo>
                    <a:pt x="374" y="189"/>
                    <a:pt x="375" y="225"/>
                    <a:pt x="331" y="255"/>
                  </a:cubicBezTo>
                  <a:cubicBezTo>
                    <a:pt x="290" y="252"/>
                    <a:pt x="249" y="252"/>
                    <a:pt x="208" y="246"/>
                  </a:cubicBezTo>
                  <a:cubicBezTo>
                    <a:pt x="152" y="237"/>
                    <a:pt x="110" y="202"/>
                    <a:pt x="57" y="189"/>
                  </a:cubicBezTo>
                  <a:cubicBezTo>
                    <a:pt x="29" y="161"/>
                    <a:pt x="13" y="141"/>
                    <a:pt x="0" y="104"/>
                  </a:cubicBezTo>
                  <a:cubicBezTo>
                    <a:pt x="9" y="51"/>
                    <a:pt x="12" y="36"/>
                    <a:pt x="4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539960" y="3809880"/>
            <a:ext cx="2913120" cy="606600"/>
            <a:chOff x="4539960" y="3809880"/>
            <a:chExt cx="2913120" cy="606600"/>
          </a:xfrm>
        </p:grpSpPr>
        <p:sp>
          <p:nvSpPr>
            <p:cNvPr id="1143" name=""/>
            <p:cNvSpPr/>
            <p:nvPr/>
          </p:nvSpPr>
          <p:spPr>
            <a:xfrm>
              <a:off x="4539960" y="3809880"/>
              <a:ext cx="291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AC MOTOR (f=60H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4" name=""/>
            <p:cNvGraphicFramePr/>
            <p:nvPr/>
          </p:nvGraphicFramePr>
          <p:xfrm>
            <a:off x="5337000" y="4124160"/>
            <a:ext cx="1473480" cy="292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7000" y="4124160"/>
                      <a:ext cx="1473480" cy="29232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46" name=""/>
          <p:cNvGrpSpPr/>
          <p:nvPr/>
        </p:nvGrpSpPr>
        <p:grpSpPr>
          <a:xfrm>
            <a:off x="4534560" y="4556160"/>
            <a:ext cx="3446640" cy="735120"/>
            <a:chOff x="4534560" y="4556160"/>
            <a:chExt cx="3446640" cy="735120"/>
          </a:xfrm>
        </p:grpSpPr>
        <p:sp>
          <p:nvSpPr>
            <p:cNvPr id="1147" name=""/>
            <p:cNvSpPr/>
            <p:nvPr/>
          </p:nvSpPr>
          <p:spPr>
            <a:xfrm>
              <a:off x="4534560" y="4556160"/>
              <a:ext cx="3446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FM RADIO TRANSMIT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8" name=""/>
            <p:cNvGraphicFramePr/>
            <p:nvPr/>
          </p:nvGraphicFramePr>
          <p:xfrm>
            <a:off x="5410080" y="4876920"/>
            <a:ext cx="1752840" cy="41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4876920"/>
                      <a:ext cx="1752840" cy="414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0" name=""/>
            <p:cNvSpPr/>
            <p:nvPr/>
          </p:nvSpPr>
          <p:spPr>
            <a:xfrm>
              <a:off x="7392600" y="4861080"/>
              <a:ext cx="3546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1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19080" y="257040"/>
            <a:ext cx="6991200" cy="24098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71200" y="60480"/>
            <a:ext cx="571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VARIABLE DIFFERENTIAL TRANSFORMER (LVD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3048120" y="1790640"/>
          <a:ext cx="10922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790640"/>
                    <a:ext cx="1092240" cy="6476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-9360" y="2743200"/>
            <a:ext cx="6029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3848400" cy="409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7"/>
          <a:stretch/>
        </p:blipFill>
        <p:spPr>
          <a:xfrm>
            <a:off x="4572000" y="3352680"/>
            <a:ext cx="45054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165" name=""/>
          <p:cNvGrpSpPr/>
          <p:nvPr/>
        </p:nvGrpSpPr>
        <p:grpSpPr>
          <a:xfrm>
            <a:off x="4711680" y="898560"/>
            <a:ext cx="4356000" cy="3290760"/>
            <a:chOff x="4711680" y="898560"/>
            <a:chExt cx="4356000" cy="3290760"/>
          </a:xfrm>
        </p:grpSpPr>
        <p:sp>
          <p:nvSpPr>
            <p:cNvPr id="1166" name=""/>
            <p:cNvSpPr/>
            <p:nvPr/>
          </p:nvSpPr>
          <p:spPr>
            <a:xfrm>
              <a:off x="6996960" y="898560"/>
              <a:ext cx="118368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 LOA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4711680" y="3809880"/>
            <a:ext cx="4356000" cy="37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11680" y="3809880"/>
                      <a:ext cx="4356000" cy="3794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69" name=""/>
          <p:cNvGrpSpPr/>
          <p:nvPr/>
        </p:nvGrpSpPr>
        <p:grpSpPr>
          <a:xfrm>
            <a:off x="6095880" y="4896000"/>
            <a:ext cx="2952720" cy="1504440"/>
            <a:chOff x="6095880" y="4896000"/>
            <a:chExt cx="2952720" cy="1504440"/>
          </a:xfrm>
        </p:grpSpPr>
        <p:pic>
          <p:nvPicPr>
            <p:cNvPr id="1170" name="" descr=""/>
            <p:cNvPicPr/>
            <p:nvPr/>
          </p:nvPicPr>
          <p:blipFill>
            <a:blip r:embed="rId10"/>
            <a:stretch/>
          </p:blipFill>
          <p:spPr>
            <a:xfrm>
              <a:off x="7086600" y="4896000"/>
              <a:ext cx="196200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1"/>
            <a:stretch/>
          </p:blipFill>
          <p:spPr>
            <a:xfrm>
              <a:off x="6095880" y="5581440"/>
              <a:ext cx="2552760" cy="81900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</p:grpSp>
      <p:grpSp>
        <p:nvGrpSpPr>
          <p:cNvPr id="1172" name=""/>
          <p:cNvGrpSpPr/>
          <p:nvPr/>
        </p:nvGrpSpPr>
        <p:grpSpPr>
          <a:xfrm>
            <a:off x="1982880" y="3809880"/>
            <a:ext cx="6018120" cy="1830600"/>
            <a:chOff x="1982880" y="3809880"/>
            <a:chExt cx="6018120" cy="1830600"/>
          </a:xfrm>
        </p:grpSpPr>
        <p:grpSp>
          <p:nvGrpSpPr>
            <p:cNvPr id="1173" name=""/>
            <p:cNvGrpSpPr/>
            <p:nvPr/>
          </p:nvGrpSpPr>
          <p:grpSpPr>
            <a:xfrm>
              <a:off x="3276720" y="3809880"/>
              <a:ext cx="4724280" cy="1828800"/>
              <a:chOff x="3276720" y="3809880"/>
              <a:chExt cx="4724280" cy="1828800"/>
            </a:xfrm>
          </p:grpSpPr>
          <p:pic>
            <p:nvPicPr>
              <p:cNvPr id="1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57720" y="4248000"/>
                <a:ext cx="374328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"/>
              <p:cNvSpPr/>
              <p:nvPr/>
            </p:nvSpPr>
            <p:spPr>
              <a:xfrm flipV="1">
                <a:off x="3276720" y="3809880"/>
                <a:ext cx="1295280" cy="1828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 flipH="1" flipV="1">
              <a:off x="1982880" y="3811680"/>
              <a:ext cx="12952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838080" y="3583080"/>
            <a:ext cx="1409760" cy="1827000"/>
            <a:chOff x="838080" y="3583080"/>
            <a:chExt cx="1409760" cy="1827000"/>
          </a:xfrm>
        </p:grpSpPr>
        <p:sp>
          <p:nvSpPr>
            <p:cNvPr id="1178" name=""/>
            <p:cNvSpPr/>
            <p:nvPr/>
          </p:nvSpPr>
          <p:spPr>
            <a:xfrm>
              <a:off x="1633680" y="3583080"/>
              <a:ext cx="614160" cy="479160"/>
            </a:xfrm>
            <a:custGeom>
              <a:avLst/>
              <a:gdLst/>
              <a:ahLst/>
              <a:rect l="l" t="t" r="r" b="b"/>
              <a:pathLst>
                <a:path w="387" h="302">
                  <a:moveTo>
                    <a:pt x="387" y="113"/>
                  </a:moveTo>
                  <a:cubicBezTo>
                    <a:pt x="376" y="95"/>
                    <a:pt x="336" y="39"/>
                    <a:pt x="321" y="28"/>
                  </a:cubicBezTo>
                  <a:cubicBezTo>
                    <a:pt x="301" y="13"/>
                    <a:pt x="250" y="5"/>
                    <a:pt x="227" y="0"/>
                  </a:cubicBezTo>
                  <a:cubicBezTo>
                    <a:pt x="163" y="7"/>
                    <a:pt x="136" y="10"/>
                    <a:pt x="85" y="38"/>
                  </a:cubicBezTo>
                  <a:cubicBezTo>
                    <a:pt x="65" y="49"/>
                    <a:pt x="29" y="75"/>
                    <a:pt x="29" y="75"/>
                  </a:cubicBezTo>
                  <a:cubicBezTo>
                    <a:pt x="23" y="94"/>
                    <a:pt x="16" y="113"/>
                    <a:pt x="10" y="132"/>
                  </a:cubicBezTo>
                  <a:cubicBezTo>
                    <a:pt x="0" y="161"/>
                    <a:pt x="37" y="211"/>
                    <a:pt x="57" y="226"/>
                  </a:cubicBezTo>
                  <a:cubicBezTo>
                    <a:pt x="128" y="281"/>
                    <a:pt x="158" y="292"/>
                    <a:pt x="246" y="302"/>
                  </a:cubicBezTo>
                  <a:cubicBezTo>
                    <a:pt x="268" y="299"/>
                    <a:pt x="291" y="301"/>
                    <a:pt x="312" y="293"/>
                  </a:cubicBezTo>
                  <a:cubicBezTo>
                    <a:pt x="346" y="279"/>
                    <a:pt x="369" y="222"/>
                    <a:pt x="369" y="1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838080" y="4051440"/>
            <a:ext cx="1333800" cy="1358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8080" y="4051440"/>
                      <a:ext cx="1333800" cy="1358640"/>
                    </a:xfrm>
                    <a:prstGeom prst="rect">
                      <a:avLst/>
                    </a:prstGeom>
                    <a:ln w="255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400" y="76320"/>
            <a:ext cx="2098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VDT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571840" cy="79056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3"/>
          <a:stretch/>
        </p:blipFill>
        <p:spPr>
          <a:xfrm>
            <a:off x="3581280" y="990720"/>
            <a:ext cx="3705480" cy="86652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4"/>
          <a:stretch/>
        </p:blipFill>
        <p:spPr>
          <a:xfrm>
            <a:off x="3600360" y="1828800"/>
            <a:ext cx="3867120" cy="7239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5"/>
          <a:stretch/>
        </p:blipFill>
        <p:spPr>
          <a:xfrm>
            <a:off x="66600" y="457200"/>
            <a:ext cx="32101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189" name=""/>
          <p:cNvGrpSpPr/>
          <p:nvPr/>
        </p:nvGrpSpPr>
        <p:grpSpPr>
          <a:xfrm>
            <a:off x="152280" y="2819520"/>
            <a:ext cx="8569080" cy="1181160"/>
            <a:chOff x="152280" y="2819520"/>
            <a:chExt cx="8569080" cy="1181160"/>
          </a:xfrm>
        </p:grpSpPr>
        <p:pic>
          <p:nvPicPr>
            <p:cNvPr id="1190" name="" descr=""/>
            <p:cNvPicPr/>
            <p:nvPr/>
          </p:nvPicPr>
          <p:blipFill>
            <a:blip r:embed="rId6"/>
            <a:stretch/>
          </p:blipFill>
          <p:spPr>
            <a:xfrm>
              <a:off x="152280" y="2819520"/>
              <a:ext cx="55818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5734800" y="2880000"/>
              <a:ext cx="298656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t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ing zero- phas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6858000" y="228600"/>
          <a:ext cx="198108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228600"/>
                    <a:ext cx="1981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4" name=""/>
          <p:cNvGrpSpPr/>
          <p:nvPr/>
        </p:nvGrpSpPr>
        <p:grpSpPr>
          <a:xfrm>
            <a:off x="249840" y="4175280"/>
            <a:ext cx="2036160" cy="1662120"/>
            <a:chOff x="249840" y="4175280"/>
            <a:chExt cx="2036160" cy="1662120"/>
          </a:xfrm>
        </p:grpSpPr>
        <p:sp>
          <p:nvSpPr>
            <p:cNvPr id="1195" name=""/>
            <p:cNvSpPr/>
            <p:nvPr/>
          </p:nvSpPr>
          <p:spPr>
            <a:xfrm>
              <a:off x="249840" y="4175280"/>
              <a:ext cx="157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380880" y="4648320"/>
            <a:ext cx="1905120" cy="118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4648320"/>
                      <a:ext cx="190512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8" name=""/>
          <p:cNvGrpSpPr/>
          <p:nvPr/>
        </p:nvGrpSpPr>
        <p:grpSpPr>
          <a:xfrm>
            <a:off x="2362320" y="4800600"/>
            <a:ext cx="4333680" cy="1314360"/>
            <a:chOff x="2362320" y="4800600"/>
            <a:chExt cx="4333680" cy="1314360"/>
          </a:xfrm>
        </p:grpSpPr>
        <p:pic>
          <p:nvPicPr>
            <p:cNvPr id="1199" name="" descr=""/>
            <p:cNvPicPr/>
            <p:nvPr/>
          </p:nvPicPr>
          <p:blipFill>
            <a:blip r:embed="rId11"/>
            <a:stretch/>
          </p:blipFill>
          <p:spPr>
            <a:xfrm>
              <a:off x="2362320" y="4800600"/>
              <a:ext cx="4333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12"/>
            <a:stretch/>
          </p:blipFill>
          <p:spPr>
            <a:xfrm>
              <a:off x="2362320" y="5715000"/>
              <a:ext cx="275256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"/>
          <p:cNvGrpSpPr/>
          <p:nvPr/>
        </p:nvGrpSpPr>
        <p:grpSpPr>
          <a:xfrm>
            <a:off x="3124080" y="228600"/>
            <a:ext cx="5791320" cy="4419360"/>
            <a:chOff x="3124080" y="228600"/>
            <a:chExt cx="5791320" cy="4419360"/>
          </a:xfrm>
        </p:grpSpPr>
        <p:sp>
          <p:nvSpPr>
            <p:cNvPr id="1202" name=""/>
            <p:cNvSpPr/>
            <p:nvPr/>
          </p:nvSpPr>
          <p:spPr>
            <a:xfrm>
              <a:off x="6039360" y="3489120"/>
              <a:ext cx="228672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13"/>
            <a:stretch/>
          </p:blipFill>
          <p:spPr>
            <a:xfrm>
              <a:off x="3200400" y="4190760"/>
              <a:ext cx="146700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6781680" y="228600"/>
              <a:ext cx="2133720" cy="914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24080" y="4114800"/>
              <a:ext cx="160020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1214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5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6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1217" name="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92160" y="604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240" y="60480"/>
            <a:ext cx="554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N “ADAPTOR” OR “WALL TRANSFORM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540072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5179320" y="593640"/>
            <a:ext cx="3864240" cy="1311480"/>
            <a:chOff x="5179320" y="593640"/>
            <a:chExt cx="3864240" cy="1311480"/>
          </a:xfrm>
        </p:grpSpPr>
        <p:graphicFrame>
          <p:nvGraphicFramePr>
            <p:cNvPr id="1231" name=""/>
            <p:cNvGraphicFramePr/>
            <p:nvPr/>
          </p:nvGraphicFramePr>
          <p:xfrm>
            <a:off x="6553080" y="914400"/>
            <a:ext cx="90180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914400"/>
                      <a:ext cx="9018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"/>
            <p:cNvSpPr/>
            <p:nvPr/>
          </p:nvSpPr>
          <p:spPr>
            <a:xfrm>
              <a:off x="5179320" y="593640"/>
              <a:ext cx="386424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s and 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-14400" y="1214280"/>
            <a:ext cx="7578720" cy="2529000"/>
            <a:chOff x="-14400" y="1214280"/>
            <a:chExt cx="7578720" cy="2529000"/>
          </a:xfrm>
        </p:grpSpPr>
        <p:grpSp>
          <p:nvGrpSpPr>
            <p:cNvPr id="1235" name=""/>
            <p:cNvGrpSpPr/>
            <p:nvPr/>
          </p:nvGrpSpPr>
          <p:grpSpPr>
            <a:xfrm>
              <a:off x="361800" y="1214280"/>
              <a:ext cx="7202520" cy="2529000"/>
              <a:chOff x="361800" y="1214280"/>
              <a:chExt cx="7202520" cy="2529000"/>
            </a:xfrm>
          </p:grpSpPr>
          <p:sp>
            <p:nvSpPr>
              <p:cNvPr id="1236" name=""/>
              <p:cNvSpPr/>
              <p:nvPr/>
            </p:nvSpPr>
            <p:spPr>
              <a:xfrm>
                <a:off x="361800" y="2651040"/>
                <a:ext cx="2491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ansformer turn rat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520" y="3048120"/>
                <a:ext cx="256212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8" name=""/>
              <p:cNvSpPr/>
              <p:nvPr/>
            </p:nvSpPr>
            <p:spPr>
              <a:xfrm>
                <a:off x="6254640" y="1214280"/>
                <a:ext cx="1309680" cy="449280"/>
              </a:xfrm>
              <a:custGeom>
                <a:avLst/>
                <a:gdLst/>
                <a:ahLst/>
                <a:rect l="l" t="t" r="r" b="b"/>
                <a:pathLst>
                  <a:path w="825" h="283">
                    <a:moveTo>
                      <a:pt x="130" y="0"/>
                    </a:moveTo>
                    <a:cubicBezTo>
                      <a:pt x="60" y="8"/>
                      <a:pt x="43" y="2"/>
                      <a:pt x="7" y="57"/>
                    </a:cubicBezTo>
                    <a:cubicBezTo>
                      <a:pt x="12" y="109"/>
                      <a:pt x="0" y="144"/>
                      <a:pt x="35" y="179"/>
                    </a:cubicBezTo>
                    <a:cubicBezTo>
                      <a:pt x="84" y="228"/>
                      <a:pt x="177" y="224"/>
                      <a:pt x="243" y="236"/>
                    </a:cubicBezTo>
                    <a:cubicBezTo>
                      <a:pt x="360" y="257"/>
                      <a:pt x="483" y="267"/>
                      <a:pt x="602" y="283"/>
                    </a:cubicBezTo>
                    <a:cubicBezTo>
                      <a:pt x="646" y="280"/>
                      <a:pt x="690" y="279"/>
                      <a:pt x="734" y="274"/>
                    </a:cubicBezTo>
                    <a:cubicBezTo>
                      <a:pt x="747" y="273"/>
                      <a:pt x="762" y="273"/>
                      <a:pt x="772" y="264"/>
                    </a:cubicBezTo>
                    <a:cubicBezTo>
                      <a:pt x="789" y="249"/>
                      <a:pt x="810" y="208"/>
                      <a:pt x="810" y="208"/>
                    </a:cubicBezTo>
                    <a:cubicBezTo>
                      <a:pt x="825" y="159"/>
                      <a:pt x="810" y="144"/>
                      <a:pt x="781" y="104"/>
                    </a:cubicBezTo>
                    <a:cubicBezTo>
                      <a:pt x="774" y="95"/>
                      <a:pt x="772" y="81"/>
                      <a:pt x="762" y="75"/>
                    </a:cubicBezTo>
                    <a:cubicBezTo>
                      <a:pt x="718" y="47"/>
                      <a:pt x="628" y="43"/>
                      <a:pt x="583" y="38"/>
                    </a:cubicBezTo>
                    <a:cubicBezTo>
                      <a:pt x="523" y="41"/>
                      <a:pt x="464" y="47"/>
                      <a:pt x="404" y="47"/>
                    </a:cubicBezTo>
                    <a:cubicBezTo>
                      <a:pt x="367" y="47"/>
                      <a:pt x="353" y="33"/>
                      <a:pt x="319" y="28"/>
                    </a:cubicBezTo>
                    <a:cubicBezTo>
                      <a:pt x="291" y="24"/>
                      <a:pt x="262" y="23"/>
                      <a:pt x="234" y="19"/>
                    </a:cubicBezTo>
                    <a:cubicBezTo>
                      <a:pt x="199" y="14"/>
                      <a:pt x="165" y="6"/>
                      <a:pt x="13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-14400" y="1558800"/>
              <a:ext cx="554040" cy="696960"/>
            </a:xfrm>
            <a:custGeom>
              <a:avLst/>
              <a:gdLst/>
              <a:ahLst/>
              <a:rect l="l" t="t" r="r" b="b"/>
              <a:pathLst>
                <a:path w="349" h="439">
                  <a:moveTo>
                    <a:pt x="339" y="113"/>
                  </a:moveTo>
                  <a:cubicBezTo>
                    <a:pt x="336" y="94"/>
                    <a:pt x="340" y="73"/>
                    <a:pt x="330" y="57"/>
                  </a:cubicBezTo>
                  <a:cubicBezTo>
                    <a:pt x="316" y="34"/>
                    <a:pt x="273" y="0"/>
                    <a:pt x="273" y="0"/>
                  </a:cubicBezTo>
                  <a:cubicBezTo>
                    <a:pt x="235" y="3"/>
                    <a:pt x="197" y="4"/>
                    <a:pt x="160" y="9"/>
                  </a:cubicBezTo>
                  <a:cubicBezTo>
                    <a:pt x="112" y="15"/>
                    <a:pt x="78" y="64"/>
                    <a:pt x="37" y="85"/>
                  </a:cubicBezTo>
                  <a:cubicBezTo>
                    <a:pt x="31" y="94"/>
                    <a:pt x="23" y="103"/>
                    <a:pt x="18" y="113"/>
                  </a:cubicBezTo>
                  <a:cubicBezTo>
                    <a:pt x="10" y="131"/>
                    <a:pt x="0" y="170"/>
                    <a:pt x="0" y="170"/>
                  </a:cubicBezTo>
                  <a:cubicBezTo>
                    <a:pt x="9" y="218"/>
                    <a:pt x="27" y="346"/>
                    <a:pt x="75" y="378"/>
                  </a:cubicBezTo>
                  <a:cubicBezTo>
                    <a:pt x="114" y="404"/>
                    <a:pt x="90" y="392"/>
                    <a:pt x="132" y="406"/>
                  </a:cubicBezTo>
                  <a:cubicBezTo>
                    <a:pt x="151" y="412"/>
                    <a:pt x="188" y="425"/>
                    <a:pt x="188" y="425"/>
                  </a:cubicBezTo>
                  <a:cubicBezTo>
                    <a:pt x="238" y="421"/>
                    <a:pt x="349" y="439"/>
                    <a:pt x="349" y="35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658880" y="3276720"/>
            <a:ext cx="2859840" cy="626040"/>
            <a:chOff x="1658880" y="3276720"/>
            <a:chExt cx="2859840" cy="626040"/>
          </a:xfrm>
        </p:grpSpPr>
        <p:grpSp>
          <p:nvGrpSpPr>
            <p:cNvPr id="1241" name=""/>
            <p:cNvGrpSpPr/>
            <p:nvPr/>
          </p:nvGrpSpPr>
          <p:grpSpPr>
            <a:xfrm>
              <a:off x="1658880" y="3390840"/>
              <a:ext cx="2859840" cy="511920"/>
              <a:chOff x="1658880" y="3390840"/>
              <a:chExt cx="2859840" cy="511920"/>
            </a:xfrm>
          </p:grpSpPr>
          <p:sp>
            <p:nvSpPr>
              <p:cNvPr id="1242" name=""/>
              <p:cNvSpPr/>
              <p:nvPr/>
            </p:nvSpPr>
            <p:spPr>
              <a:xfrm>
                <a:off x="1658880" y="3390840"/>
                <a:ext cx="635040" cy="44604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98" y="55"/>
                    </a:moveTo>
                    <a:cubicBezTo>
                      <a:pt x="88" y="64"/>
                      <a:pt x="77" y="72"/>
                      <a:pt x="69" y="83"/>
                    </a:cubicBezTo>
                    <a:cubicBezTo>
                      <a:pt x="0" y="185"/>
                      <a:pt x="167" y="267"/>
                      <a:pt x="239" y="281"/>
                    </a:cubicBezTo>
                    <a:cubicBezTo>
                      <a:pt x="308" y="270"/>
                      <a:pt x="334" y="253"/>
                      <a:pt x="381" y="206"/>
                    </a:cubicBezTo>
                    <a:cubicBezTo>
                      <a:pt x="387" y="187"/>
                      <a:pt x="400" y="169"/>
                      <a:pt x="400" y="149"/>
                    </a:cubicBezTo>
                    <a:cubicBezTo>
                      <a:pt x="400" y="38"/>
                      <a:pt x="345" y="46"/>
                      <a:pt x="258" y="17"/>
                    </a:cubicBezTo>
                    <a:cubicBezTo>
                      <a:pt x="206" y="0"/>
                      <a:pt x="151" y="42"/>
                      <a:pt x="98" y="55"/>
                    </a:cubicBezTo>
                    <a:close/>
                  </a:path>
                </a:pathLst>
              </a:custGeom>
              <a:noFill/>
              <a:ln w="2556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06080" y="3565440"/>
                <a:ext cx="231264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safety marg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44" name=""/>
            <p:cNvGraphicFramePr/>
            <p:nvPr/>
          </p:nvGraphicFramePr>
          <p:xfrm>
            <a:off x="3200400" y="3276720"/>
            <a:ext cx="7113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00400" y="3276720"/>
                      <a:ext cx="71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6" name=""/>
          <p:cNvGrpSpPr/>
          <p:nvPr/>
        </p:nvGrpSpPr>
        <p:grpSpPr>
          <a:xfrm>
            <a:off x="5715000" y="838080"/>
            <a:ext cx="2752560" cy="2229120"/>
            <a:chOff x="5715000" y="838080"/>
            <a:chExt cx="2752560" cy="2229120"/>
          </a:xfrm>
        </p:grpSpPr>
        <p:sp>
          <p:nvSpPr>
            <p:cNvPr id="1247" name=""/>
            <p:cNvSpPr/>
            <p:nvPr/>
          </p:nvSpPr>
          <p:spPr>
            <a:xfrm>
              <a:off x="6553080" y="838080"/>
              <a:ext cx="1079640" cy="405000"/>
            </a:xfrm>
            <a:custGeom>
              <a:avLst/>
              <a:gdLst/>
              <a:ahLst/>
              <a:rect l="l" t="t" r="r" b="b"/>
              <a:pathLst>
                <a:path w="680" h="255">
                  <a:moveTo>
                    <a:pt x="113" y="38"/>
                  </a:moveTo>
                  <a:cubicBezTo>
                    <a:pt x="40" y="50"/>
                    <a:pt x="25" y="42"/>
                    <a:pt x="0" y="114"/>
                  </a:cubicBezTo>
                  <a:cubicBezTo>
                    <a:pt x="3" y="130"/>
                    <a:pt x="0" y="148"/>
                    <a:pt x="10" y="161"/>
                  </a:cubicBezTo>
                  <a:cubicBezTo>
                    <a:pt x="47" y="209"/>
                    <a:pt x="76" y="193"/>
                    <a:pt x="123" y="217"/>
                  </a:cubicBezTo>
                  <a:cubicBezTo>
                    <a:pt x="136" y="223"/>
                    <a:pt x="148" y="231"/>
                    <a:pt x="161" y="236"/>
                  </a:cubicBezTo>
                  <a:cubicBezTo>
                    <a:pt x="179" y="243"/>
                    <a:pt x="217" y="255"/>
                    <a:pt x="217" y="255"/>
                  </a:cubicBezTo>
                  <a:cubicBezTo>
                    <a:pt x="346" y="248"/>
                    <a:pt x="461" y="231"/>
                    <a:pt x="586" y="208"/>
                  </a:cubicBezTo>
                  <a:cubicBezTo>
                    <a:pt x="594" y="204"/>
                    <a:pt x="644" y="180"/>
                    <a:pt x="652" y="170"/>
                  </a:cubicBezTo>
                  <a:cubicBezTo>
                    <a:pt x="669" y="149"/>
                    <a:pt x="672" y="102"/>
                    <a:pt x="680" y="76"/>
                  </a:cubicBezTo>
                  <a:cubicBezTo>
                    <a:pt x="658" y="6"/>
                    <a:pt x="626" y="21"/>
                    <a:pt x="567" y="0"/>
                  </a:cubicBezTo>
                  <a:cubicBezTo>
                    <a:pt x="413" y="9"/>
                    <a:pt x="267" y="30"/>
                    <a:pt x="113" y="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80200" y="1603440"/>
              <a:ext cx="1193760" cy="585720"/>
            </a:xfrm>
            <a:custGeom>
              <a:avLst/>
              <a:gdLst/>
              <a:ahLst/>
              <a:rect l="l" t="t" r="r" b="b"/>
              <a:pathLst>
                <a:path w="752" h="369">
                  <a:moveTo>
                    <a:pt x="170" y="19"/>
                  </a:moveTo>
                  <a:cubicBezTo>
                    <a:pt x="145" y="22"/>
                    <a:pt x="119" y="21"/>
                    <a:pt x="95" y="29"/>
                  </a:cubicBezTo>
                  <a:cubicBezTo>
                    <a:pt x="74" y="37"/>
                    <a:pt x="38" y="66"/>
                    <a:pt x="38" y="66"/>
                  </a:cubicBezTo>
                  <a:cubicBezTo>
                    <a:pt x="0" y="124"/>
                    <a:pt x="19" y="213"/>
                    <a:pt x="76" y="255"/>
                  </a:cubicBezTo>
                  <a:cubicBezTo>
                    <a:pt x="166" y="321"/>
                    <a:pt x="317" y="340"/>
                    <a:pt x="425" y="369"/>
                  </a:cubicBezTo>
                  <a:cubicBezTo>
                    <a:pt x="447" y="367"/>
                    <a:pt x="524" y="363"/>
                    <a:pt x="558" y="350"/>
                  </a:cubicBezTo>
                  <a:cubicBezTo>
                    <a:pt x="604" y="333"/>
                    <a:pt x="642" y="306"/>
                    <a:pt x="690" y="293"/>
                  </a:cubicBezTo>
                  <a:cubicBezTo>
                    <a:pt x="752" y="251"/>
                    <a:pt x="752" y="193"/>
                    <a:pt x="690" y="151"/>
                  </a:cubicBezTo>
                  <a:cubicBezTo>
                    <a:pt x="663" y="112"/>
                    <a:pt x="650" y="125"/>
                    <a:pt x="624" y="85"/>
                  </a:cubicBezTo>
                  <a:cubicBezTo>
                    <a:pt x="603" y="7"/>
                    <a:pt x="573" y="13"/>
                    <a:pt x="501" y="0"/>
                  </a:cubicBezTo>
                  <a:cubicBezTo>
                    <a:pt x="390" y="17"/>
                    <a:pt x="282" y="19"/>
                    <a:pt x="170" y="1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9" name="" descr=""/>
            <p:cNvPicPr/>
            <p:nvPr/>
          </p:nvPicPr>
          <p:blipFill>
            <a:blip r:embed="rId8"/>
            <a:stretch/>
          </p:blipFill>
          <p:spPr>
            <a:xfrm>
              <a:off x="5715000" y="2362320"/>
              <a:ext cx="275256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"/>
          <p:cNvGrpSpPr/>
          <p:nvPr/>
        </p:nvGrpSpPr>
        <p:grpSpPr>
          <a:xfrm>
            <a:off x="5402520" y="3200400"/>
            <a:ext cx="3484440" cy="1479240"/>
            <a:chOff x="5402520" y="3200400"/>
            <a:chExt cx="3484440" cy="1479240"/>
          </a:xfrm>
        </p:grpSpPr>
        <p:pic>
          <p:nvPicPr>
            <p:cNvPr id="1251" name="" descr=""/>
            <p:cNvPicPr/>
            <p:nvPr/>
          </p:nvPicPr>
          <p:blipFill>
            <a:blip r:embed="rId9"/>
            <a:stretch/>
          </p:blipFill>
          <p:spPr>
            <a:xfrm>
              <a:off x="5562720" y="3200400"/>
              <a:ext cx="3324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5402520" y="4098960"/>
              <a:ext cx="325908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fy 100mA rating for ex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rgin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7" dur="indefinite" restart="never" nodeType="tmRoot">
          <p:childTnLst>
            <p:seq>
              <p:cTn id="2848" dur="indefinite" nodeType="mainSeq">
                <p:childTnLst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00080" y="533520"/>
            <a:ext cx="7153200" cy="229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9200" y="0"/>
            <a:ext cx="2576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‘DOT’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1520" y="304920"/>
            <a:ext cx="635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COILS WITH DIFFERENT WINDING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857240" cy="48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1981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8600" y="3048120"/>
            <a:ext cx="8677440" cy="837720"/>
            <a:chOff x="228600" y="3048120"/>
            <a:chExt cx="8677440" cy="8377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228600" y="3048120"/>
              <a:ext cx="2895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5791320" y="3124080"/>
              <a:ext cx="311472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52280" y="3733920"/>
            <a:ext cx="8869320" cy="2971800"/>
            <a:chOff x="152280" y="3733920"/>
            <a:chExt cx="8869320" cy="297180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152280" y="3733920"/>
              <a:ext cx="57150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80040" y="4023000"/>
              <a:ext cx="2941560" cy="8240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s mark reference polarity for voltages induced by each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3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86000" y="685800"/>
                <a:ext cx="44449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2844360" y="44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666880" y="2438280"/>
            <a:ext cx="6477120" cy="1778040"/>
            <a:chOff x="2666880" y="2438280"/>
            <a:chExt cx="6477120" cy="177804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666880" y="2438280"/>
                  <a:ext cx="264168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linear inductor models</m:t>
                          </m:r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635360" y="3200400"/>
                  <a:ext cx="45086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r>
                            <m:t xml:space="preserve">self</m:t>
                          </m:r>
                          <m:r>
                            <m:t xml:space="preserve">inductance</m:t>
                          </m:r>
                          <m:r>
                            <m:rPr>
                              <m:lit/>
                              <m:nor/>
                            </m:rPr>
                            <m:t xml:space="preserve"> of circuit </m:t>
                          </m:r>
                          <m:r>
                            <m:t xml:space="preserve">i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utual inductance between circuit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j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" name=""/>
          <p:cNvGrpSpPr/>
          <p:nvPr/>
        </p:nvGrpSpPr>
        <p:grpSpPr>
          <a:xfrm>
            <a:off x="2526120" y="4495680"/>
            <a:ext cx="3811320" cy="1046160"/>
            <a:chOff x="2526120" y="4495680"/>
            <a:chExt cx="3811320" cy="1046160"/>
          </a:xfrm>
        </p:grpSpPr>
        <p:grpSp>
          <p:nvGrpSpPr>
            <p:cNvPr id="158" name=""/>
            <p:cNvGrpSpPr/>
            <p:nvPr/>
          </p:nvGrpSpPr>
          <p:grpSpPr>
            <a:xfrm>
              <a:off x="2526120" y="4495680"/>
              <a:ext cx="2252160" cy="1046160"/>
              <a:chOff x="2526120" y="4495680"/>
              <a:chExt cx="2252160" cy="1046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526120" y="4495680"/>
                <a:ext cx="1792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pecial case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n=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216240" y="4894200"/>
                    <a:ext cx="15620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952880" y="4876920"/>
                  <a:ext cx="1384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Linear Model: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151920" y="36360"/>
            <a:ext cx="2413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 GENER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9320" y="135000"/>
            <a:ext cx="330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171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175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179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82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85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819520" y="76320"/>
            <a:ext cx="3743280" cy="571320"/>
            <a:chOff x="2819520" y="76320"/>
            <a:chExt cx="3743280" cy="57132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819520" y="76320"/>
              <a:ext cx="3743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819520" y="380880"/>
              <a:ext cx="343836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6991200" cy="771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8160" y="220968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2133720"/>
            <a:ext cx="5867280" cy="3249360"/>
            <a:chOff x="1143000" y="2133720"/>
            <a:chExt cx="5867280" cy="3249360"/>
          </a:xfrm>
        </p:grpSpPr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1143000" y="2133720"/>
              <a:ext cx="586728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835520" y="2285640"/>
              <a:ext cx="1611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Jorge Aravena</cp:lastModifiedBy>
  <dcterms:modified xsi:type="dcterms:W3CDTF">2004-09-19T13:12:43Z</dcterms:modified>
  <cp:revision>16</cp:revision>
  <dc:subject/>
  <dc:title>No Slide Title</dc:title>
</cp:coreProperties>
</file>